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98A-8DF2-48C8-8DFC-BDB0FBB4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77A-D7CC-402E-BB37-2903628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427-7644-4CFC-9A76-E17E568B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6EB-4A72-4C9E-8BD8-3541AD79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831-6728-428F-A073-0A5D60B4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50F4-472E-49C3-AC49-EF35CA0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D17-D2AA-4AB9-B68F-4F3C26FC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9B3A-FAA6-4596-BC71-1BE94E2B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E2B6-9FFB-4D25-90CD-F2179AC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D9B3-C76A-4AED-9921-1E5392A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2421-380D-45E9-A321-D1CBA65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2F8-D63E-4952-BF31-D58F673D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7F5-8D00-4420-95A4-5DABE26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564E-5447-4A89-B3C3-4A9C9BA2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73AB-FABA-4615-9C12-D3E9D474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F94A-DA05-49E1-BED6-8DAEC7D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3C07-4E23-4122-B748-BA713D95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CF4-0496-45C4-A006-9D0E356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FFD-9A89-4A11-A5E0-114DADF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FAB-55B2-45B6-8AEB-4906D88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551-B21B-4387-B66D-35403231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0DE-F84B-4529-80CE-6845F54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5D8-C083-4B67-9D5E-E0C9F54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999-830B-4BA4-888E-4B9A075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2D8B-7D76-4E1F-85F8-84A07DFC30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A61-3C53-4D94-B364-DC57D0CEEA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ÓWNOŚĆ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1628640"/>
            <a:ext cx="62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rawdź za pomocą osi liczbowej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ówność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ułam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81280" y="2732040"/>
            <a:ext cx="1525680" cy="787320"/>
            <a:chOff x="3581280" y="273204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7360" y="273204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3581280" y="2913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1280" y="5386320"/>
            <a:ext cx="1525680" cy="787320"/>
            <a:chOff x="3581280" y="538632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167360" y="538632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3581280" y="5559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81280" y="3632040"/>
            <a:ext cx="1440000" cy="787320"/>
            <a:chOff x="3581280" y="36320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208400" y="3632040"/>
                  <a:ext cx="81288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581280" y="37814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81280" y="4508640"/>
            <a:ext cx="1440000" cy="787320"/>
            <a:chOff x="3581280" y="45086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233960" y="4508640"/>
                  <a:ext cx="787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3581280" y="46594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NOŻENIE NA KRZY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22400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ą metodą sprawdzania, czy ułamki są sobie równe je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oda zwana „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odą na krzy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20336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kł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zamy, czy podane ułamki są sobie ró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27360" y="2573280"/>
                <a:ext cx="8427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07000" y="2575080"/>
                <a:ext cx="63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3541680" y="3117960"/>
            <a:ext cx="11415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1680" y="3117960"/>
            <a:ext cx="1141560" cy="7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97000" y="45435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3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53974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2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42000" y="2671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my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3 = 1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2360" y="3068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24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16640" y="3519360"/>
            <a:ext cx="3375000" cy="676440"/>
            <a:chOff x="5516640" y="3519360"/>
            <a:chExt cx="3375000" cy="676440"/>
          </a:xfrm>
        </p:grpSpPr>
        <p:sp>
          <p:nvSpPr>
            <p:cNvPr id="124" name=""/>
            <p:cNvSpPr/>
            <p:nvPr/>
          </p:nvSpPr>
          <p:spPr>
            <a:xfrm>
              <a:off x="5516640" y="365436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łamki       i      są rów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642360" y="3519360"/>
                  <a:ext cx="34920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182000" y="3519360"/>
                  <a:ext cx="262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8:07Z</dcterms:modified>
  <cp:revision>42</cp:revision>
  <dc:subject/>
  <dc:title>Slajd 1</dc:title>
</cp:coreProperties>
</file>